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7DB-0497-4EAC-A8A5-7A4B20C5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6AB-512F-40AF-99B4-77B1A3CF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EE72-54E4-4C69-BC9D-B9DD1A7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04691-4AEE-4FD7-B185-FD84E31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BEEB-8DF9-4E91-B2EF-5D639DE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E4905-2ED9-4D9F-A68F-702FF7B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B0A7A-3A03-41CA-931E-87DB0C9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5D92-6F2C-4231-9542-703995E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B5FC-7C49-4720-942A-35F660C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14A43-7483-43CF-A14D-7ED1E0EB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A26B-C3FE-416C-B9ED-9E489DF8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39607-5B5B-4FC1-83C3-C34E2F52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B1-2261-4DF6-B1EA-E8D4D607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7301E-BA1B-425D-BA00-CBF4D80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D92AB-20C1-4F1F-8F17-6E7DED8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91374-B605-44C6-9827-F7B5A91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DA3C3-C93A-480F-A703-51F71EF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952DE-568D-42B0-A3E1-44BBE85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72FF5-503A-4E34-A209-8161244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E9B59-ACEA-4196-85BF-4FBFBCA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276A4-1134-4E03-B8F4-A5FD873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FBD30-7A10-4D59-9754-38BE8BC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11128-2FC4-4DF6-BF8D-38EB1190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959-7C8E-43F8-9789-EC0B50FB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FAD95-E990-4E22-AAEC-AFC2533C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69A9-8D71-417F-8BD6-B34780BF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30BF7-AA03-4B8D-8F20-9E3C422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4DB9F-6DB0-4681-926B-9D40F87A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0D4A6-8217-4473-89DF-859A4D6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80CD9-B9F1-41A3-91F0-C5F0F329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DA61-74A7-4DB1-B465-E3ED699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48EF5-7B89-4D44-9478-843C5D8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82A66-D0BB-47DE-A678-BC043A2A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EB55E-D149-4096-9CF1-D2D4F80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99D-9BD9-435B-8E88-CFE65CBC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1337-86BD-4258-950E-25C43A36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B4A4B-9846-4C13-AF57-A8C2D327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DCFA3-0D03-4488-8A82-EB37C93A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A78FD-41EA-4219-B8C2-80537FEA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35637-A6DD-4E4A-8B31-6CB21E78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2042-B1AF-4447-887A-5485BE60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08E54-6C85-42FB-8F12-189D639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5FC23-D82B-4A66-857E-5A94E88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0EACD-37D8-499C-8F4F-CFFF154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5BB08-BC90-4D9C-9E0F-48BDDE8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0D4F-094B-40DB-AA18-7AE082A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6E075-2726-4B42-8E3C-C6590EC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2870-C085-45CD-AC27-342C00F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49F9-80F1-436D-AB97-CD3265A5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EA4F7-EC36-4835-92EE-6D1A6EE1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895A1-45E9-4197-BBFF-57B5DB4A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D5D27-95FC-46DC-8C44-3179751B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ADDC9-70E3-40F5-98FF-01C203B2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E45FD-AC1C-43C0-BBE2-1DFFEE4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A68E8-7A94-4294-A67E-BA4E775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BFD49-6820-4A6F-9120-7BEC1523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943-83EB-475D-83BD-090081B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9E92F-2FFF-48B9-954A-46F35922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90CA1-E748-4744-ABE3-D0DB6CB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EDDC9-8BD2-4DD7-94CF-2FF1F304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F74F2-5A11-407A-95E4-689558D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41ED0-55E0-49A4-BE47-CAE38C89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6790F-5FEC-459B-81C4-453AB632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200B2-67BE-48B0-9C04-70BDD4EE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CF8F3-E524-4E08-B936-019448C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A6073-E6C4-4F14-B5A4-4944DFF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4B814-673C-4830-928E-BE9AB6F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3AA-8D1A-4D4C-ABBE-0C229A06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4825F-DD0B-4990-9A8F-CAF8952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895F4-4A52-477E-A650-A0809ED2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FA49B-95C2-4717-8046-1F54FA1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4F06A-6AFA-488C-8CD2-A055FF9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3EDE1-7D27-43AE-8855-86B5F60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8055D-97FA-4A7E-BA29-8CBB36C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533CC-D47B-4B4D-951B-0436407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4C16C-9C6F-48B0-81DA-C176F967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6EDD8-A9E4-486F-872A-A0EEF5D4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93976-0374-448B-AB85-C7FE953E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5DCE-B105-491A-BE66-F1D890E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F7114-6DED-4A0C-91F9-906950F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EB656-D413-404B-8DF6-1D2A4AF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235E6-4E29-40AC-AC06-91C9359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0C26E-647E-4C97-A82E-03BA38BA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BA4E6-2086-4103-8A66-8D953AE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B4A4F-F683-49FB-8806-3BD7AF5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8AF6B-A26A-4BC2-ABEA-C318806B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EF552-EE6A-40B8-93F0-9FE0106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40E5C-E277-49B6-A4F9-CD4478B2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F8288-9121-4A72-A4C5-D396C708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81B-D6CC-4340-BB4A-E7513F6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A95E6-3195-4C9A-A0D8-F263A7F2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17481-6E05-48BD-AC65-0B19722E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8FCDF-C74E-484E-80C2-951F188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1DF8C-C52F-4659-9163-5999DFCB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C2B47-A095-4198-84D3-9114352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EA47A-4C6E-423C-93D8-62F3BD5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F5552-85AB-4716-9C53-81382ED2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7B544-A3B3-4FDB-A098-27B4C12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F1217-C62D-43B7-8725-A9A6FE3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E3665-EE21-4F89-9B36-A44237D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645-3653-4B10-BC67-694376A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C9B03-C2F8-4B47-A196-5B22C53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DA331-4F75-4088-8A07-D5CEFA42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A48DB-FEDA-4D31-885B-890C0D15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59438-3C8F-4C7E-9F3A-9F6D4B8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0386A-94D5-4B5B-A4DB-A3DB82E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AE0EE-EA96-4E6A-AA7D-91C99DFE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14014-3F21-4773-984A-3C2882DE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4D81F-EFCB-495B-8CE3-1BEB27F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AA01B-8513-498A-B2A8-5C3354B8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A8F5B-80FF-4370-A828-1FDBC254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12B-3D80-4291-9F5D-FED8975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8072-B9F5-47D5-B35B-B6BAA82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1D35C-61AC-4F47-BC8B-6F65485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DC09C-7B0F-4BDE-9C78-242FAB0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52AA4-191B-479E-9D17-81BBBB63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8B716-AC80-4C5B-BC85-BB0A392D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B68FA-6E34-4260-A9C4-65EE9EB6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227F7-DE1F-4895-9A10-C76809AE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0815-9215-47D1-BAD0-6163874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14A9B-66C3-40DB-9D3A-0051828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2D500-F075-45B4-80D4-C9FA288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61B26-5B41-48B9-952B-799AE40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ED5-29BB-4BB3-A53A-5592AEF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6D721-A99D-48E6-888A-0F64B3E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EF373-E3F9-48BB-B18B-7171E34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32E30-ABDE-4D93-B3BC-82CC05A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A7ED0-F24C-411B-840C-164373F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C5DAF-9234-475C-86F6-05DEEFA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CCB0E-1C2F-4616-8353-C257F282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033B8-06C8-4B62-85F0-44589A9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2F697-2E08-44B8-8C0D-C07B3A47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FFE54-6589-4673-8A73-4623110A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6A1DB-9805-46FC-A550-0886A3A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5338-A20C-40FE-B9F9-93CCBA2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B9AAE-4AD2-41DC-AF64-09700BEB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D4F15-4672-4364-9F0A-A02FFC1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CAD9C-523E-4CF3-8C58-4D880C10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34120-5B53-4113-A97F-F95B81A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E1167-119D-4F15-B493-6022805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E8F81-8CF3-4025-9E9F-1F00A8E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4D9CB-8411-41E1-B848-5A7A37B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1A2AF-DE43-49D8-A6EA-1AC5F5AB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49F0F-E735-4F4D-9B87-FCAF50E9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00E30-7989-4F8E-AB69-BFC54F86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386-218F-4C68-BCF3-C00CA678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18E32-BE0E-46EA-B5C9-54719E0F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047706-1056-4058-9733-233E1F1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4CF1F-5DEA-4930-AEA3-F7E46ED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209B6-9533-405F-93E9-978531DC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FEF6C-BE0C-410D-9CB6-A4B3FA5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96D95-CC58-46B8-881A-49B2C15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83CA3-6FF2-4BFF-BFB4-DE37F33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6C457-2D51-4B9F-8F56-9496CD4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79A83-514D-44C2-B77B-89E26ADB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65F5F-688F-4402-9341-85D1BC22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B120-0329-4B4B-9FEF-E60592E8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9FCAF-C2BA-4BCD-AB4A-1A630761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C6831-B2C7-4519-AE61-BD11E207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D3936-9667-48D3-B8DC-DE0FB70D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DEC49-B96F-4619-A4BB-ED2673BF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F9826-71EB-49B0-875D-D416EB9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450CA-80DA-47CD-9453-7E049A0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9CC1C-5F05-47EF-9A08-B51EE9E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3ABC8-E9C9-4733-84A1-886AAE3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EEAE1-274D-47CA-814C-280B34C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549B7-A9D7-4FA9-9759-3ED68D6C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B655-058A-415D-93C9-56108F10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84720-455A-4719-A9F3-9601800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00FC7-586A-49F7-B9C4-B486BDA2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A5FFC-CB4E-4B89-BA06-1486254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8352-29DE-4751-9607-DCB35ED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2522-713E-42CF-8248-63B7616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E95C-D11C-4DC5-94C4-D8D20C7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4B9E-B9EF-4A4E-893F-EF4407B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E97-BB76-4C5A-832B-D9768226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780D-AA54-43C3-A3EC-7829CC6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D80F-2F1C-446B-832C-13CFC00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3373-F9F5-498C-86B0-CA495FE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2ADB-0552-4FF5-9CF7-ED85820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F1A3-C411-45C3-8378-D09EFEAC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5551-E604-4FC9-B438-2E86E1CB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280E-D6C4-4E97-95C6-44D5484F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678B-84A1-450F-B741-6A794CD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52E9-19C1-4412-98D0-F8D307D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5EA8-9C8A-4D71-868D-55D35B3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65E-4BEC-428A-9BBE-2DB9291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BE8E-111B-4C66-8570-667617F6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6B02-E996-4F62-9FE9-9D0EB89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3E5E-8A50-4288-8AAC-297C28D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8B8E-24B2-4BE0-B19B-775189E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7C22-0D28-4319-A726-4CFB9B0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A2CA-D597-4460-BFD7-2D55D78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DAAD-3541-493D-9E75-AAA6FF49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B6A6-D20E-4385-8581-2E2F8BCF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E00B-F5DB-46DF-863B-AF4C262A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0CC8-5902-4149-94B3-715B1EEF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98E-C973-4EE3-B17E-783FCB1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6ABA-283E-4150-AD24-92E29FE6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E070-B17D-4F0E-8749-79EF4A99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721E-D20C-4137-B9F1-ADD95ACE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1F31-333D-4171-8CCA-25ABA619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E129-529F-4FC3-A778-604DFA28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2B36-78B7-4E98-892A-364D070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3774-3EF8-4CC5-8D78-CCC7F50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9422-244D-4714-8537-A1A0C2B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D380-AAD2-4BC8-89EC-1DE99C6C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D3F2C-500A-40A0-BA69-B022A91B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19D-A65C-4F34-A140-5187CFD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5A05-4286-4F9B-B4F3-DD6A09CB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890D3-57EA-4F2D-BA75-DE41CB5E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A3C2-127A-40E0-8C7C-0661A4A0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224E-8BE8-4A5B-8FFD-BF4059D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759DC-1812-4ED6-9225-CCF49BF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5C2F-809C-4815-B6FD-E0335DA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852D0-7354-439A-A2CF-9D36E7D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3F59C-CB05-4C05-9B9F-343E0B5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CCF2-883E-4288-9018-B5EA627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8976-D632-4878-A485-78B5BB7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433-E6A9-487F-B91F-1E88F40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AA06-EA97-4334-B253-9C896B3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7534-93D4-4EAA-8681-2E326D7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3752-7A19-4C8F-B27A-99D4873D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C7D82-54C7-45EA-BF4C-723FDABF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E9D3-36CF-4796-BB8E-2ABBCEE9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35A1-96C3-4A5F-B8E4-9873F093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2DBD-1B38-45A0-BE47-53D270A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9ED3-13BC-4313-801A-401C72C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680B-83BF-410F-854C-4FCCFBAE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369A-CA34-4DF3-823D-08DA0E0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532-3782-454E-B8BA-F9E99FA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9D337-DE4E-4217-A9F0-B4EB7C6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E0D00-72E6-44E7-8DC7-505EF41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8A6C4-FDE6-4BF6-86E9-EDA8C01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D511-F925-4A5E-8BBA-9A737467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EFDE-6D1A-4806-8187-AC417745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2010-DD47-4C5F-BE07-80D3D0DF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262CE-8A3D-4526-8D44-714785E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DFBBF-223D-4CB6-85F3-67604436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56C34-95BD-4165-B294-144E06F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E8B37-32B1-4F21-87D7-D50774B5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957-E00F-4330-BC73-C9EDF47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01F2B-370E-4525-95AE-55FAEE9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7494-A746-44CF-A0D6-3CC2EAB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3E3C-4E2B-4385-8905-F90BCF1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CF3C-5AFF-40D8-974F-8A82BE05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92941-5BA6-468C-956D-105FD2F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0C1B-A349-4B66-A00C-DC9A377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50A02-6017-4F77-8533-4907D2BE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D9038-64C3-454E-B146-E04CF49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28E6-76BC-4248-9FAE-266D392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2DE15-7927-4C10-80CE-E627E257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E835-1F8A-4539-AEDC-2150C63841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0E4-7322-4ED7-9820-6AAABB0D3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59F9-B33B-4924-BF0E-A6521A26B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528-7F25-4135-94F9-DA75EF1F1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F0EF-A69A-4F9D-AA34-BEF5D0936C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A6C3-FB6A-4B45-9BE8-791199838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9EB-38E6-4A7E-9928-483C9F6E93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F6C-C841-4A96-9818-09FFC8EDB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31D-F618-4467-863B-B53C52F4E9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1F3-465B-40BB-A109-D91EC0E0F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B7F9-D57B-4075-AB69-3A31CCD35F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5FA-221A-4A02-88BF-846EF1543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3DB-E358-429C-AD4D-38EED59B3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E1F0-D131-442A-82B1-87B160B2C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121D-7C04-439A-9B8E-6533267B1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303-DC3D-4A7B-91B0-E3B762019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1BD-61E8-4C02-B610-89609FAD6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823-6ECA-4852-9967-8A7CEF47E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FFF0-458C-44EB-803D-C7F46010C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563-2CA8-4AD6-A51C-D432D4C35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772-21A3-4F0F-AE4D-805420458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CF4-7661-496C-82D2-05F11C4875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AE9-7258-463C-BB1C-87FAF2E1F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25D-3376-4160-BB7E-E7321F32C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A06F-F8C2-4E1B-BB58-A5AA291110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A93-DC88-4D53-A2E1-484461559E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2DB-018D-42AD-96E5-03C68C14F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2CBA-4FF7-42BE-99D0-3B46A81A5A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2482-6623-4268-BA28-E867E6C20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8C25-83D1-4C2B-B0A7-A6C9D3CE6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F9C9-A29D-4ECB-BF96-188649AE3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EE4-C6EB-495C-B19A-5A3D36905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6FB-3E43-450A-A3DE-A956B649A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0363-EF36-4AB8-87FF-C0FA272629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0BD-D164-4235-BF72-B9E71A60A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D4F-4C36-4072-96BE-75D7CBF9D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41F5-33D0-4623-8C14-7DC527FB9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54E-54CF-4183-9AB3-C4BE7EDF1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F6B6-AC01-4CEC-BB1D-187889B2E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677A-C3D1-45BA-B52F-1160BE390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5600" y="3157560"/>
            <a:ext cx="57528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143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29145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556000" y="494172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6" descr=""/>
          <p:cNvPicPr/>
          <p:nvPr/>
        </p:nvPicPr>
        <p:blipFill>
          <a:blip r:embed="rId5"/>
          <a:stretch/>
        </p:blipFill>
        <p:spPr>
          <a:xfrm>
            <a:off x="1854360" y="4844880"/>
            <a:ext cx="390240" cy="428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494172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020000" y="4941720"/>
            <a:ext cx="64764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9" descr=""/>
          <p:cNvPicPr/>
          <p:nvPr/>
        </p:nvPicPr>
        <p:blipFill>
          <a:blip r:embed="rId8"/>
          <a:stretch/>
        </p:blipFill>
        <p:spPr>
          <a:xfrm>
            <a:off x="6348240" y="4826160"/>
            <a:ext cx="390600" cy="428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771640" y="5670720"/>
            <a:ext cx="64800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516720" y="5310360"/>
            <a:ext cx="647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371520" y="2762280"/>
            <a:ext cx="8400960" cy="1333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9411" descr=""/>
          <p:cNvPicPr/>
          <p:nvPr/>
        </p:nvPicPr>
        <p:blipFill>
          <a:blip r:embed="rId2"/>
          <a:stretch/>
        </p:blipFill>
        <p:spPr>
          <a:xfrm>
            <a:off x="1332000" y="3160800"/>
            <a:ext cx="390600" cy="42840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9412" descr=""/>
          <p:cNvPicPr/>
          <p:nvPr/>
        </p:nvPicPr>
        <p:blipFill>
          <a:blip r:embed="rId3"/>
          <a:stretch/>
        </p:blipFill>
        <p:spPr>
          <a:xfrm>
            <a:off x="3457440" y="3160800"/>
            <a:ext cx="390600" cy="42840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9413" descr=""/>
          <p:cNvPicPr/>
          <p:nvPr/>
        </p:nvPicPr>
        <p:blipFill>
          <a:blip r:embed="rId4"/>
          <a:stretch/>
        </p:blipFill>
        <p:spPr>
          <a:xfrm>
            <a:off x="5580000" y="3160800"/>
            <a:ext cx="390600" cy="42840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9414" descr=""/>
          <p:cNvPicPr/>
          <p:nvPr/>
        </p:nvPicPr>
        <p:blipFill>
          <a:blip r:embed="rId5"/>
          <a:stretch/>
        </p:blipFill>
        <p:spPr>
          <a:xfrm>
            <a:off x="7812000" y="315108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9415" descr=""/>
          <p:cNvPicPr/>
          <p:nvPr/>
        </p:nvPicPr>
        <p:blipFill>
          <a:blip r:embed="rId6"/>
          <a:stretch/>
        </p:blipFill>
        <p:spPr>
          <a:xfrm>
            <a:off x="1467000" y="3592440"/>
            <a:ext cx="390240" cy="42876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9416" descr=""/>
          <p:cNvPicPr/>
          <p:nvPr/>
        </p:nvPicPr>
        <p:blipFill>
          <a:blip r:embed="rId7"/>
          <a:stretch/>
        </p:blipFill>
        <p:spPr>
          <a:xfrm>
            <a:off x="3457440" y="358776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9417" descr=""/>
          <p:cNvPicPr/>
          <p:nvPr/>
        </p:nvPicPr>
        <p:blipFill>
          <a:blip r:embed="rId8"/>
          <a:stretch/>
        </p:blipFill>
        <p:spPr>
          <a:xfrm>
            <a:off x="5454720" y="3583080"/>
            <a:ext cx="390600" cy="4284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18" descr=""/>
          <p:cNvPicPr/>
          <p:nvPr/>
        </p:nvPicPr>
        <p:blipFill>
          <a:blip r:embed="rId9"/>
          <a:stretch/>
        </p:blipFill>
        <p:spPr>
          <a:xfrm>
            <a:off x="7826400" y="3583080"/>
            <a:ext cx="3906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34920" y="971640"/>
            <a:ext cx="8972640" cy="5553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22084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349236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900000" y="428292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2195640" y="428292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3492360" y="42735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4643280" y="42735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8382" descr=""/>
          <p:cNvPicPr/>
          <p:nvPr/>
        </p:nvPicPr>
        <p:blipFill>
          <a:blip r:embed="rId10"/>
          <a:stretch/>
        </p:blipFill>
        <p:spPr>
          <a:xfrm>
            <a:off x="1744560" y="5746680"/>
            <a:ext cx="1533600" cy="3430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8383" descr=""/>
          <p:cNvPicPr/>
          <p:nvPr/>
        </p:nvPicPr>
        <p:blipFill>
          <a:blip r:embed="rId11"/>
          <a:stretch/>
        </p:blipFill>
        <p:spPr>
          <a:xfrm>
            <a:off x="1739880" y="6083280"/>
            <a:ext cx="1533600" cy="3430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8384" descr=""/>
          <p:cNvPicPr/>
          <p:nvPr/>
        </p:nvPicPr>
        <p:blipFill>
          <a:blip r:embed="rId12"/>
          <a:stretch/>
        </p:blipFill>
        <p:spPr>
          <a:xfrm>
            <a:off x="5321160" y="5756400"/>
            <a:ext cx="1533600" cy="34272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8385" descr=""/>
          <p:cNvPicPr/>
          <p:nvPr/>
        </p:nvPicPr>
        <p:blipFill>
          <a:blip r:embed="rId13"/>
          <a:stretch/>
        </p:blipFill>
        <p:spPr>
          <a:xfrm>
            <a:off x="5316480" y="6093000"/>
            <a:ext cx="1533600" cy="342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4"/>
          <a:stretch/>
        </p:blipFill>
        <p:spPr>
          <a:xfrm>
            <a:off x="8397720" y="32130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5"/>
          <a:stretch/>
        </p:blipFill>
        <p:spPr>
          <a:xfrm>
            <a:off x="8317080" y="3645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6"/>
          <a:stretch/>
        </p:blipFill>
        <p:spPr>
          <a:xfrm>
            <a:off x="8388360" y="40147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7"/>
          <a:stretch/>
        </p:blipFill>
        <p:spPr>
          <a:xfrm>
            <a:off x="8388360" y="44370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8"/>
          <a:stretch/>
        </p:blipFill>
        <p:spPr>
          <a:xfrm>
            <a:off x="8307360" y="4869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9"/>
          <a:stretch/>
        </p:blipFill>
        <p:spPr>
          <a:xfrm>
            <a:off x="8388360" y="52815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0"/>
          <a:stretch/>
        </p:blipFill>
        <p:spPr>
          <a:xfrm>
            <a:off x="8388360" y="5689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1"/>
          <a:stretch/>
        </p:blipFill>
        <p:spPr>
          <a:xfrm>
            <a:off x="8397720" y="6093000"/>
            <a:ext cx="287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8:4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